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3.png" ContentType="image/png"/>
  <Override PartName="/ppt/media/image37.png" ContentType="image/png"/>
  <Override PartName="/ppt/media/image49.png" ContentType="image/png"/>
  <Override PartName="/ppt/media/image50.png" ContentType="image/png"/>
  <Override PartName="/ppt/media/image11.wmf" ContentType="image/x-wmf"/>
  <Override PartName="/ppt/media/image26.png" ContentType="image/png"/>
  <Override PartName="/ppt/media/image39.png" ContentType="image/png"/>
  <Override PartName="/ppt/media/image9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7.wmf" ContentType="image/x-wmf"/>
  <Override PartName="/ppt/media/image10.png" ContentType="image/png"/>
  <Override PartName="/ppt/media/image47.png" ContentType="image/png"/>
  <Override PartName="/ppt/media/image36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E89B-DD0B-41E6-9D63-D836962798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anks to Dr Mike Fis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ave Beck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ll researchers and publishers of pa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815-DC7B-4185-8E26-AAF96D8D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910-DBA5-485B-8C59-59C701DE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C6B-D7C7-4E93-B5E5-48C3275C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01D-4B19-4227-A522-81C45A95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15B5-CC1E-4E5E-A782-03B4EFEF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8970-A8DF-4B77-816E-6D87A7D8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96CE-64E3-4DB2-ADE4-26093D23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AA73-6535-4BA8-8F61-9CCFA179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A12B-7A80-4AC5-B5E6-270F2DD9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5F27-8DBF-4AEC-BADB-F144332C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E0D5-E798-413A-BBD8-428987AC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006-F720-4030-AE23-4EE16D10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63FA-22FC-4AC7-8991-BEEDB54F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1C5B-FF4B-4A4E-B074-08A55819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6FB6-ADDD-40B1-B8DC-46D5CC1D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7856-DEE0-44FC-BA42-073A8517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5498-DE10-4833-9901-74E47ED0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2B3-3514-40CF-81A7-09A8C906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F25-B413-4D55-84DF-7AF6E13E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BF9-071C-4158-827E-B83B69E8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7A8-F210-4A48-A8E0-C94230D3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5DB-3439-43AD-9595-71482F85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A14-DB9A-4247-8E26-F68F311C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565A-030F-4A9F-AFD3-391CDE9F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7DC3-1A0E-4DB2-83FF-4E922CD41DC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5146-BD48-4527-BF5D-0F762DC995B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onveyor Dynamic Analysis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652932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1-2015 © Helix Technologies Pty Lt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429000"/>
            <a:ext cx="4114800" cy="413244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00000"/>
                </a:solidFill>
                <a:latin typeface="Arial Black"/>
              </a:rPr>
              <a:t>Helix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echnolo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Black"/>
              </a:rPr>
              <a:t>delta-T6</a:t>
            </a:r>
            <a:r>
              <a:rPr b="0" i="1" lang="en-US" sz="4800" spc="-1" strike="noStrike">
                <a:solidFill>
                  <a:srgbClr val="800000"/>
                </a:solidFill>
                <a:latin typeface="Arial Black"/>
              </a:rPr>
              <a:t> </a:t>
            </a:r>
            <a:br>
              <a:rPr sz="1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6400800"/>
            <a:ext cx="3142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Speed Control / Regenerative Conveyors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orque Speed curve needs to be extended beyond the 100% Full load Speed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ension waves tend to force drive over design spe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Motor acts as brake beyond synchronous spe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2120" y="1447920"/>
          <a:ext cx="635472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635472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143000" y="251460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Aborted Start can be model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4290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Regenerative Lo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666880" y="23619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Drive Speed vs Time curv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54100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Enter any Time speed relationshi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95360" y="1681200"/>
            <a:ext cx="63532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‘</a:t>
            </a: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S’ Curve Velocity Ramp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54100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You can add any shape Velocity Ramp for Drive Pul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ncludes ‘S’ curves, Linear ramp, Dwell perio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386680" cy="3853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400800" y="259092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 cur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ny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aste from Exc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505320" y="3505320"/>
            <a:ext cx="1428480" cy="482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429000" y="2743200"/>
            <a:ext cx="2171880" cy="482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>
            <a:off x="1828800" y="3733920"/>
            <a:ext cx="1447920" cy="60948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048120" y="2361960"/>
            <a:ext cx="304560" cy="60948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Multiple Drives / Delay Tim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47242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ny Number of Drives can be model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ach Drive can have different starting cur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elay times can be ad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borted Start can be model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58672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Dynamic Calcula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27428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Calculation Run time depends on convey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ypically 60,000 calculation results each for Velocities, Tensions, Strai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2 seconds up to 20 minutes on Pentium 4/2.4GHz P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tiff belt (high modulus) lightly loaded is worst c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Variable Step Runge Kutta adjusts calculation to requir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rogress form indicates progr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Cancel Calculation but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752480" y="1523880"/>
          <a:ext cx="3981600" cy="12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398160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Summary of Dynamic Calculation Procedu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 Input - simple and easy to 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ive Torques vs Speed relationshi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ive Speed vs Time Ram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 Times on Multiple Driv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Calcula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phic Pres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nt &amp; Export Reports to Word, PDF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2057400"/>
            <a:ext cx="213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Tahoma"/>
              </a:rPr>
              <a:t>Run 2 sample calc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alculation Exampl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vel Conveyor Star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vel Conveyor Stopp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clined Conveyor Stopp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ldback Tens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pare Torque Control Start vs Speed Control Star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Example Level CV 01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91320" y="1295280"/>
            <a:ext cx="3504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2600m long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3,500 tp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T1600 x 1,200 wide bel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945 kW installed pow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ual Drives 130% FL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Brake at Ta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254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V 01 Drive Torqu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53337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nd Rotor Motor on all 3 dr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63529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V 01 Belt Velociti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0" y="2742840"/>
            <a:ext cx="2286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9900"/>
                </a:solidFill>
                <a:latin typeface="Tahoma"/>
              </a:rPr>
              <a:t>Final Speed is regulated by Torque Speed Curv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9900"/>
                </a:solidFill>
                <a:latin typeface="Tahoma"/>
              </a:rPr>
              <a:t>Variable Speed Conveyors can be modelled by reducing speed 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6769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Introduc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lix Technologies was established in 1991 and Helix software has been exported to more than 25 countries around the wor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gineering Software - Conveyor Design and Pipe Design softw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ta-T5 Static or Rigid body design softwa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et Research showed need for a Conveyor Dynamic Analysis progr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V 01 Belt Velocity Zoomed i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66520" y="5791320"/>
            <a:ext cx="5791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6675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V 01 Belt Tension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44956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5657760" cy="3933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19920" y="2666880"/>
            <a:ext cx="2666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Note tension oscillations during star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Caused by Wound Rotor motor ste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V 01 Static Calc Tension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495252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igid body calcs shows max T = 374 k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ynamic calcs show max T = 474 k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1344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CV 01 Belt Tensions 3D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64008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Note Tension steps at primary and secondary dri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8325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CV 01 Belt Tensions 3D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601992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me graph rotated to different ang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3400" y="1000080"/>
            <a:ext cx="74772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CV 01 Takeup Travel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44956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6769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CV 01 Stopping - Velocities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6324120"/>
            <a:ext cx="7543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tops in about 14 seconds - rigid body calcs = 10.59 seco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3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CV 01 Stopping - Tensions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60958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Note belt slip when slack side tension dro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5818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CV 01 Stopping - Tensions 3D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25000" cy="54482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14800" y="198072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6666"/>
                </a:solidFill>
                <a:latin typeface="Tahoma"/>
              </a:rPr>
              <a:t>Note peak tension after bra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CV 01 Stopping - Tensions 3D Rotated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25000" cy="54486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19720" y="2133360"/>
            <a:ext cx="320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6666"/>
                </a:solidFill>
                <a:latin typeface="Tahoma"/>
              </a:rPr>
              <a:t>Note low tensions before dr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Research into Dynamic Analysis since 1999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ious sources such as Bulk Solids Handling by TransTech Pub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gineering Journals and Doctoral Th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braries incl. Delft, Hannover U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hematical Skills Requi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ultant - Dr Michael Fisher, Assoc. Professor of Mathematics at UW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CV 01 Stopping - Tensions 2D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6572520" cy="46958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191120" y="2514240"/>
            <a:ext cx="3200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6666"/>
                </a:solidFill>
                <a:latin typeface="Tahoma"/>
              </a:rPr>
              <a:t>Low tension point  identified from 3D graph and plotted in 2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Inclined Conveyor Starting 3 Drives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5867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3 x 630 kW drives - starting emp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Large Tension waves force drive over speed - destruct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6934320" cy="4534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781680" y="2514600"/>
            <a:ext cx="2667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2900m long 500m lif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Wound Rotor motors starting 130% F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Empty belt absorbed power is only 225 k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Conveyor starts very quick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Inclined Conveyor Starting 1 Driv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5867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1 x 630 kW secondary drive - starting emp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6734160" cy="4400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781680" y="2514600"/>
            <a:ext cx="2667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Secondary Drive Starts convey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Primary Drive has delay time starting emp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Reduced tension wa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Equipment operating within design lim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Inclined Conveyor Tensions 1 Drive starting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6734160" cy="440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477120" y="2895480"/>
            <a:ext cx="2666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Starting Secondary Dr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Reduced tension wa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Still significant wa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Beware High lift conveyors starting emp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9900"/>
                </a:solidFill>
                <a:latin typeface="Tahoma"/>
              </a:rPr>
              <a:t>Level - Inclined Holdback Example CV 03</a:t>
            </a:r>
            <a:endParaRPr b="0" lang="en-US" sz="28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6408720" cy="9067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477120" y="1828800"/>
            <a:ext cx="2666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1000m long 50m lif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710 kW instal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2,500 tph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1500mm wide class 2000/5 ply fabric be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Effect of Holdback on Belt velocities and tens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CV 03 Stopping Belt Velocities - no holdback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1828800"/>
            <a:ext cx="2133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Holdback not fit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Drive Velocity drops quick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Tail velocity steady and then dro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Both slow to zero in about 7.5 secon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Belt starts to run backwa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Indicated by negative veloc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63630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CV 03 Stopping Belt Tensions - no holdback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6467400" cy="4629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934320" y="2209680"/>
            <a:ext cx="2209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Holdback not fit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Drive Tension drops quickly as Torque is remo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Tensions decay and settle at equilibrium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CV 03 Stopping Belt Velocities - with holdback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6572160" cy="4705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0" y="2590920"/>
            <a:ext cx="2133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Holdback fit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Drive Velocity drops quick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Tail velocity steady and then dro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Drive drops to zero and is prevented from running backwa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Tail reverses momentarily and then sto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CV 03 Stopping Belt Tensions - with holdback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572520" cy="470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781680" y="2286000"/>
            <a:ext cx="2362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Holdback fit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Drive Tension drops quickly as Torque is remo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Tensions dec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After drive stops Tension increases as Holdback activ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Required Holdback Tension can be read from grap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Peak and Steady Holdback Tension show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9900"/>
                </a:solidFill>
                <a:latin typeface="Tahoma"/>
              </a:rPr>
              <a:t>Declined CV 04 Example</a:t>
            </a:r>
            <a:endParaRPr b="0" lang="en-US" sz="28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6647040" cy="9401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705720" y="2209680"/>
            <a:ext cx="2438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1590m long 77m low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250 kW Tail Dr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2,500 tph 3m/s co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1600mm wide class 1250/4 ply fabric be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Effect of Holdback on Belt velocities and tens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Takeup before tail dr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Brake on tail dr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Mathematical Model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5105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Kelvin solid mod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1771560" cy="1038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2520" y="4038480"/>
            <a:ext cx="4343400" cy="536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447696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Declined CV 04 Belt Velocities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724520" cy="5524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467480" y="2666880"/>
            <a:ext cx="16765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VSD St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High Velocity at He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Declined CV 04 Belt Tensions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724880" cy="5524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752480" y="1905120"/>
            <a:ext cx="26672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VSD Controlled St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Tension Rise as Drive begins to act as a brak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Red line = into dr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Yellow line = out of dr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Declined CV 04 Belt Tensions 3D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1520" y="990720"/>
            <a:ext cx="8772480" cy="5715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286000"/>
            <a:ext cx="2666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VSD Controlled St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Tension Rise as Drive begins to act as a brak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Declined CV 04 Brake Released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724520" cy="5524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562720" y="3276720"/>
            <a:ext cx="266688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Belt Veloc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Brake Released on Fully Loaded Convey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Takes 23 seconds for Drive to reach design speed of 3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429000" y="4114800"/>
            <a:ext cx="1905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Declined CV 04 Stopping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724520" cy="5524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267080" y="2590920"/>
            <a:ext cx="33530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Belt Veloc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Brake at 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About 30 seconds to stop (averag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Rigid body calcs = 29.76 secon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Declined CV 04 Brake Tensions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24880" cy="552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181480" y="2590920"/>
            <a:ext cx="266724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Red Line = Into Brake (Slack S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Yellow Line = Out of Brake (Tight S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6666"/>
                </a:solidFill>
                <a:latin typeface="Tahoma"/>
              </a:rPr>
              <a:t>Steady state clamping force is show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Torque Control vs Speed Control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5790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Which is best 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8080" y="3463920"/>
            <a:ext cx="4648320" cy="21654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4648320" cy="2165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562720" y="1295280"/>
            <a:ext cx="2438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1000m long level C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250 kW Dr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2,500 tph 5.2 m/s co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1200mm wide class 500/5 ply fabric be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140% FLT Torque Controlled Start 30 seconds to st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9900"/>
                </a:solidFill>
                <a:latin typeface="Tahoma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9900"/>
                </a:solidFill>
                <a:latin typeface="Tahoma"/>
              </a:rPr>
              <a:t>30 second ‘S’ curve velocity ram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Speed Control Belt Velocities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5867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8660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Speed Control Belt Tensions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6019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239240" cy="4970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105520" y="28195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6666"/>
                </a:solidFill>
                <a:latin typeface="Tahoma"/>
              </a:rPr>
              <a:t>168 kN max ten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Torque Control Belt Velocities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55627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337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952880" y="342900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6666"/>
                </a:solidFill>
                <a:latin typeface="Tahoma"/>
              </a:rPr>
              <a:t>Velocity fluctuates with tension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elta-T5 Dynamic Analysis modul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s ‘Static’ Calculation model to capture conveyor geometry, equipment sizes, power ratings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itional ‘Dynamic data’ input - Belt modulus, Spring Constant, Delay times and Damping facto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ive Torque Control vs Speed Control Inp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ting conditions - Starting, Stopping Loa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undary Conditions can be changed by user - not hard coded into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Torque Control Belt Tensions 2D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09480" y="1366920"/>
            <a:ext cx="7239240" cy="49719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486400" y="2437920"/>
            <a:ext cx="4038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6666"/>
                </a:solidFill>
                <a:latin typeface="Tahoma"/>
              </a:rPr>
              <a:t>112 kN max ten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Speed Control 3d Tensions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5866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orque Control is better for this conveyor - each CV is diffe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2867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Dynamic Program Verifica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Uses proven delta-T software as basis for capturing data, equipment sizing and basic conveyor desig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ynamic calculations have been verified against Matlab resu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Comparison of results against many published papers e.g Muja Conveyor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esults depend on input data, method of calculation employed e.g some published results do not use Torque control, only Speed control because it is easier to program and sol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elta-T uses instantaneous f factor, variable drive torque &amp; has flexible design options so can be matched to any convey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Ongoing process of verification with our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Operating System Requirements - Delta-T5 Dynamic Version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tand alone program - no 3rd party software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equires Windows 32 bit OS i.e Windows 98, 2000, X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entium 4 x 2.4 GHz with 512 Mb RAM and 1024x768 SVGA recommen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etent Conveyor Design Engine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9900"/>
                </a:solidFill>
                <a:latin typeface="Tahoma"/>
              </a:rPr>
              <a:t>Marketing of delta-T5 Dynamic Program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gram Licences will be sold as a complete pack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cludes full rigid body version of delta-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raining to be integral part of s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oftware support and upgrades are avai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ice of software not yet determined - target is to get it down to between $15,000 to $20,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o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lix aimed to produce a flexible, powerful design program which can be used by experienced conveyor design engine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 Michael Fis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ve Beckle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 Lloyd Townl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previous publishers of pa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4114800"/>
            <a:ext cx="2743200" cy="274320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00000"/>
                </a:solidFill>
                <a:latin typeface="Arial Black"/>
              </a:rPr>
              <a:t>Helix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echnolo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Black"/>
              </a:rPr>
              <a:t>delta-T5</a:t>
            </a:r>
            <a:r>
              <a:rPr b="0" i="1" lang="en-US" sz="4800" spc="-1" strike="noStrike">
                <a:solidFill>
                  <a:srgbClr val="800000"/>
                </a:solidFill>
                <a:latin typeface="Arial Black"/>
              </a:rPr>
              <a:t> </a:t>
            </a:r>
            <a:br>
              <a:rPr sz="1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652932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1-2003 © Helix Technologies Pty Lt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IDLER1" descr=""/>
          <p:cNvPicPr/>
          <p:nvPr/>
        </p:nvPicPr>
        <p:blipFill>
          <a:blip r:embed="rId1"/>
          <a:stretch/>
        </p:blipFill>
        <p:spPr>
          <a:xfrm>
            <a:off x="457200" y="6400800"/>
            <a:ext cx="3142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Dynamic Data Inpu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imple parameters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elt Modul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gram Calculates Spring Constant, delay time </a:t>
            </a: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T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nter Calculation Run time in sec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hoose Starting / Stopping Cond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24480" y="76176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9900"/>
                </a:solidFill>
                <a:latin typeface="Tahoma"/>
              </a:rPr>
              <a:t>Dynamic Data Input Form</a:t>
            </a:r>
            <a:endParaRPr b="0" lang="en-US" sz="20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5543640" cy="6220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477120" y="2209680"/>
            <a:ext cx="2666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9900"/>
                </a:solidFill>
                <a:latin typeface="Tahoma"/>
              </a:rPr>
              <a:t>Belt Modul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9900"/>
                </a:solidFill>
                <a:latin typeface="Tahoma"/>
              </a:rPr>
              <a:t>Calculate Delay 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9900"/>
                </a:solidFill>
                <a:latin typeface="Tahoma"/>
              </a:rPr>
              <a:t>Select Operating Cond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9900"/>
                </a:solidFill>
                <a:latin typeface="Tahoma"/>
              </a:rPr>
              <a:t>Press Calcul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Torque Speed Curv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54864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Program allows user to input any profi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Can model DOL, Fluid Coupling, Wound Rotor Motor, VVVF, Variable Speed Dr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1912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Wound Rotor Motor Curv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54864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Example of Wound Rotor Motor profi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19120" y="1703520"/>
            <a:ext cx="630720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4:31:02Z</dcterms:created>
  <dc:creator>Peter Burrow</dc:creator>
  <dc:description/>
  <dc:language>en-US</dc:language>
  <cp:lastModifiedBy>pburrow@helixtech.com.au</cp:lastModifiedBy>
  <dcterms:modified xsi:type="dcterms:W3CDTF">2015-01-03T04:24:43Z</dcterms:modified>
  <cp:revision>115</cp:revision>
  <dc:subject/>
  <dc:title>Conveyor Dynamic Analysis</dc:title>
</cp:coreProperties>
</file>