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644A-CD6D-4E98-871E-5B3BEF85FC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01840" y="2228760"/>
            <a:ext cx="17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llation and Op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00040" y="1898640"/>
            <a:ext cx="2819520" cy="351648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43200" y="1650960"/>
            <a:ext cx="2833560" cy="350532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762360" y="1816200"/>
            <a:ext cx="1670040" cy="186696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62360" y="1816200"/>
            <a:ext cx="1670040" cy="186696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9C9-32E4-4F73-9A9C-5EA81122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11D-EDED-40E1-AE1A-7F561C47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D56-B7C9-4180-B2A4-AB432C53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663-A913-470A-9164-9CF7858F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2C87-3B20-4948-BF67-AEB8C630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E1CD-5392-4457-8F74-422C9732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409E-8703-46DA-8144-5C51B7A4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BE1F-DB60-454D-918F-B3DD12E3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EEC1-0F4A-4660-AF53-8AAEE62C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6107-9AF1-4FC7-9CCB-1B1C9085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6B23-6CCF-4191-8767-53421E96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A8A-CBD9-44EF-854B-3555C22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505D-F289-4743-9F74-594F99E1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BDBC-FB1D-4B01-9E4F-94044D33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E175-A87F-4F02-97CE-BEDFACD0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53B9-B081-4E55-B754-C8F50D33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1C84-8B94-4469-B444-3E603CF4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1C6-CC6A-4AA5-8257-6399E5AB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D90-E709-451B-85EA-4FC48A77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2EE-C562-416A-9FDD-E29DDF88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77D-038C-462F-8B70-C52CA652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989-1413-4DC6-945F-BF84D541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3FE-FB2D-4647-BC94-C5F2C6B3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9FF-CE0E-4CB1-97B2-21928D5F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D0EA-31C4-4263-BC33-50C1FABF454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4916-6067-464B-97F7-22B3E7D9A09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Using Helix delta-Q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65293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2004 © Helix Technolog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276720" cy="2504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6477120"/>
            <a:ext cx="393840" cy="380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38080" y="2819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pe Network Analysis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Slurry Typ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Newtoniam Flui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Settling Slur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Bingham Plastic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62440" y="2725560"/>
          <a:ext cx="369576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440" y="2725560"/>
                    <a:ext cx="369576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lurry System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ttling Slurries - settling velocity, graph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ingham Plastics - best for single pip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ther models - psuedoplastics, dilatant fluids Heschel Bulkley, Casson model, Sisko Mode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ump correction Head Rati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Settling Slurry System Curv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9480" y="2286000"/>
            <a:ext cx="25956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Bingham Slurry System Curv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8320" y="2286000"/>
            <a:ext cx="26128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Gas Network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bsolute Pressure Units - add atmospheric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low Balance at jun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eam Flow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reak Pipe into smaller lengths if choked flow occu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irconditioning, gas flow samp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ust Extractio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ummary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owerful Network Analysis Progra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eep a watch on Iteratio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uild Network in small sector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nk Process Flow or Head know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stallation and Operation of Helix delta-Q Pipe Design Softwa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structing a Basic Net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odeling Techniqu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fining the Desig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utput and Prin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Installation of delta-Q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b based install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elix CD RO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-line Registration Ver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ngle Device Driv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Default Setting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iquid, Slurry or Gas network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tup Default Pipe, Liquid, Slurry and G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ni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atabas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cc9900"/>
                </a:solidFill>
                <a:latin typeface="Tahoma"/>
              </a:rPr>
              <a:t>Friction Loss Calculat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Darcy Weisbach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Hazen William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Isotherm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ahoma"/>
              </a:rPr>
              <a:t>Modified Darc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105520" y="1676520"/>
                <a:ext cx="22860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19720" y="3048120"/>
                <a:ext cx="35938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for 0 &lt; 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&lt; 2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962520" y="3962520"/>
                <a:ext cx="4787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f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Î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t xml:space="preserve">R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f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     for   2000 </m:t>
                    </m:r>
                    <m:r>
                      <m:t xml:space="preserve">≤</m:t>
                    </m:r>
                    <m:r>
                      <m:t xml:space="preserve">R</m:t>
                    </m:r>
                    <m:r>
                      <m:t xml:space="preserve">≤</m:t>
                    </m:r>
                    <m:r>
                      <m:t xml:space="preserve">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914400" y="5334120"/>
            <a:ext cx="426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ffffff"/>
                </a:solidFill>
                <a:latin typeface="Times New Roman"/>
              </a:rPr>
              <a:t>Perry’s Chemical Engineers Handbook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ffffff"/>
                </a:solidFill>
                <a:latin typeface="Times New Roman"/>
              </a:rPr>
              <a:t>Crane Technical Paper 4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Building a Pipe Network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cess Flow Known - use Nozz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cess Head Known - use Tank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ipe Fittings - kf Value, add own fittings, edit dat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lving the Network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62440" y="2286000"/>
            <a:ext cx="3695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Other Network Componen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ump Head, absorbed power, NPSH availab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rifice Plates, NR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at Exchanger, Cyclones, Pressure Vesse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twork setting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81520" y="2286000"/>
            <a:ext cx="23004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Network Analysi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inear Theory Metho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ewton Raphso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atch itera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ne Tun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cover from overshoot - use Random seed and reset butt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Printing Data Repor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etwork Diagram - right clic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ystem Graph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port Form - Pipes, Nodes, Fittings, Graph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ne Tuning - use graph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xport to Exc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D DXF Fil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03:03:50Z</dcterms:created>
  <dc:creator>Peter Burrow</dc:creator>
  <dc:description/>
  <dc:language>en-US</dc:language>
  <cp:lastModifiedBy>Peter Burrow</cp:lastModifiedBy>
  <cp:lastPrinted>2004-11-30T03:06:21Z</cp:lastPrinted>
  <dcterms:modified xsi:type="dcterms:W3CDTF">2004-11-30T03:32:43Z</dcterms:modified>
  <cp:revision>11</cp:revision>
  <dc:subject/>
  <dc:title>Using Helix delta-Q</dc:title>
</cp:coreProperties>
</file>